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D3C-FF8C-4764-9197-62635E15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2DD-3887-4C22-A071-3FDBD6C1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603-7CC4-43FB-8E56-AEF59A86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EF3-F446-41A9-8E07-09F5B930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C1B-0CF6-4EBD-B6F9-ACC29591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53E-54AD-4863-8E25-37902A55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762D-6F48-4322-8C5B-6E388B55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C2B-DD9B-4EB7-8B12-5B88203B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9FD-BCCA-4BF3-8542-4BAADC3A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7A1-EE73-4FFE-B3DF-5FAA3005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639-6577-48D0-8917-3D33D8F6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91A-2C86-436F-914D-811A3C31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5959-B35E-42CC-A37D-AA6F584E0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lker.com/cliparts/7/d/1/6/11954402441345879580liftarn_Dog_bed.svg.hi.png&amp;imgrefurl=http://www.clker.com/clipart-11723.html&amp;usg=__m5C26cwyF6LW0Oaz4bFpmboLaTU=&amp;h=224&amp;w=600&amp;sz=33&amp;hl=en&amp;start=5&amp;zoom=1&amp;itbs=1&amp;tbnid=ym0b1uJ3IUsThM:&amp;tbnh=50&amp;tbnw=135&amp;prev=/images%3Fq%3Ddog%2Bbed%2Bcartoon%26hl%3Den%26gbv%3D2%26tbs%3Disch:1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dhs.freehosting.net/photo.html" TargetMode="External"/><Relationship Id="rId2" Type="http://schemas.openxmlformats.org/officeDocument/2006/relationships/hyperlink" Target="http://www.clker.com/clipart-11723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7400" y="838080"/>
            <a:ext cx="4848120" cy="17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ladimir Script"/>
              </a:rPr>
              <a:t>The Lost Puppy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495288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a Westerho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18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29559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5334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There was a little boy and girl named, Geri and Terri. They were 2 year old brother and sister, twins. For Christmas their parents got them a puppy, two, one for Geri and one for Terri.</a:t>
            </a:r>
            <a:r>
              <a:rPr b="0" lang="en-US" sz="1800" spc="-1" strike="noStrike">
                <a:solidFill>
                  <a:srgbClr val="ffff66"/>
                </a:solidFill>
                <a:latin typeface="Haettenschweiler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2462400" cy="3493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10560" t="6764" r="38437" b="47299"/>
          <a:stretch/>
        </p:blipFill>
        <p:spPr>
          <a:xfrm>
            <a:off x="4267080" y="2514600"/>
            <a:ext cx="1365480" cy="160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10499" t="0" r="51739" b="46161"/>
          <a:stretch/>
        </p:blipFill>
        <p:spPr>
          <a:xfrm>
            <a:off x="6248520" y="2666880"/>
            <a:ext cx="931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38680" y="228600"/>
            <a:ext cx="3353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They loved to play with them, all day lo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Terri look Bear can play fetch” said Ge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Geri teach mine teach mine!” yelled Ter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They played outside till it was di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5960" y="3124080"/>
            <a:ext cx="2197080" cy="2890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2955960" cy="326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28800" y="5791320"/>
            <a:ext cx="31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Clip 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228600"/>
            <a:ext cx="297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As they were getting ready for bed, Geri</a:t>
            </a:r>
            <a:r>
              <a:rPr b="0" lang="en-US" sz="1800" spc="-1" strike="noStrike">
                <a:solidFill>
                  <a:srgbClr val="ffff66"/>
                </a:solidFill>
                <a:latin typeface="Haettenschweiler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noticed that Bear wasn’t in the bed. He looked all over the place, he went to the kitchen, backyard, and the bathroom. Still nowhere to be f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9144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?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257800"/>
            <a:ext cx="2657520" cy="984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45838" t="22650" r="15240" b="32084"/>
          <a:stretch/>
        </p:blipFill>
        <p:spPr>
          <a:xfrm>
            <a:off x="4800600" y="160020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786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800600" y="1600200"/>
            <a:ext cx="4114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Haettenschweiler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He told his parents, and sister, but no one could find h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Geri don’t cry, we’ll find him” Terri tried to cheer him up, but all he wanted was B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And then we heard a no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 rot="1346400">
            <a:off x="761760" y="4419720"/>
            <a:ext cx="42955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BOM-BOM-BOM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 rot="5400000">
            <a:off x="480960" y="1423800"/>
            <a:ext cx="2514600" cy="581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BOM-BOM-BOM*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57913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Haettenschweiler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They all went to see what it was, and in the cabinet in the kitchen something was there. We heard pots and pans, and then… B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2955960" cy="3268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91520" y="3049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Clip 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2286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o for Christmas that year we got a dog, then lost one of them. But it had to of been the best Christmas ev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95480" y="1143000"/>
            <a:ext cx="2944800" cy="4179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10560" t="6764" r="38437" b="47299"/>
          <a:stretch/>
        </p:blipFill>
        <p:spPr>
          <a:xfrm>
            <a:off x="380880" y="1981080"/>
            <a:ext cx="2014560" cy="2362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10499" t="0" r="51739" b="46161"/>
          <a:stretch/>
        </p:blipFill>
        <p:spPr>
          <a:xfrm>
            <a:off x="7543800" y="2895480"/>
            <a:ext cx="1371600" cy="213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19320" y="4343400"/>
            <a:ext cx="1577880" cy="1744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553080" y="4343400"/>
            <a:ext cx="1273320" cy="1676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7920" y="617220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Clip 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632448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Clip 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380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0238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7040" y="3763080"/>
            <a:ext cx="515664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ts Page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Available Dog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10/20/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www.sedhs.freehosting.net/phot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rl : slide 2 and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y: slide 2,4, an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438280"/>
            <a:ext cx="647712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g Bed clip ar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lker.com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10.21.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clker.com/clipart-1172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133720" y="1905120"/>
            <a:ext cx="4876560" cy="26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end(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9:05:07Z</dcterms:created>
  <dc:creator>install</dc:creator>
  <dc:description/>
  <dc:language>en-US</dc:language>
  <cp:lastModifiedBy>install</cp:lastModifiedBy>
  <dcterms:modified xsi:type="dcterms:W3CDTF">2010-11-05T19:25:16Z</dcterms:modified>
  <cp:revision>11</cp:revision>
  <dc:subject/>
  <dc:title>Slide 1</dc:title>
</cp:coreProperties>
</file>